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.wmf" ContentType="image/x-wmf"/>
  <Override PartName="/ppt/media/image2.png" ContentType="image/png"/>
  <Override PartName="/ppt/media/horse_pass2.wav" ContentType="audio/x-wav"/>
  <Override PartName="/ppt/media/bell2.wav" ContentType="audio/x-wav"/>
  <Override PartName="/ppt/media/loud_whinny.wav" ContentType="audio/x-wav"/>
  <Override PartName="/ppt/media/image3.png" ContentType="image/png"/>
  <Override PartName="/ppt/media/image4.png" ContentType="image/png"/>
  <Override PartName="/ppt/media/horse_snort1.wav" ContentType="audio/x-wav"/>
  <Override PartName="/ppt/media/horse_scream1.wav" ContentType="audio/x-wav"/>
  <Override PartName="/ppt/media/horse_whine1.WAV" ContentType="audio/x-wav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5EF-1F46-4773-9300-22FBA13C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B50-C977-4E4E-80A1-3CA717C5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28D-48B1-4C2F-9A03-63283DC5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B215-9BEC-4D9B-ACA2-9A1DAC01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720-5545-48A2-8BC4-45D7CBF2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14F-5DB2-45F2-AE49-AC1A210B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81C-C69B-4EA2-9A67-A40FFD36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BCE-EBCC-496C-A125-1D6BEC8C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BAB-DDF1-4889-88F0-AD934796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D55-6EB5-40C8-B59F-B3C0319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0F6-FF3B-43E0-8080-D7D56AC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DA1-4EA3-41C9-B75B-411E445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F193-A615-4058-B436-35E07CE8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ell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audio" Target="../media/horse_pass2.wav"/><Relationship Id="rId9" Type="http://schemas.openxmlformats.org/officeDocument/2006/relationships/audio" Target="../media/horse_snort1.wav"/><Relationship Id="rId10" Type="http://schemas.openxmlformats.org/officeDocument/2006/relationships/audio" Target="../media/horse_whine1.WAV"/><Relationship Id="rId11" Type="http://schemas.openxmlformats.org/officeDocument/2006/relationships/audio" Target="../media/loud_whinny.wav"/><Relationship Id="rId12" Type="http://schemas.openxmlformats.org/officeDocument/2006/relationships/audio" Target="../media/horse_snort1.wav"/><Relationship Id="rId13" Type="http://schemas.openxmlformats.org/officeDocument/2006/relationships/audio" Target="../media/horse_whine1.WAV"/><Relationship Id="rId14" Type="http://schemas.openxmlformats.org/officeDocument/2006/relationships/audio" Target="../media/horse_scream1.wav"/><Relationship Id="rId15" Type="http://schemas.openxmlformats.org/officeDocument/2006/relationships/audio" Target="../media/horse_snort1.wav"/><Relationship Id="rId16" Type="http://schemas.openxmlformats.org/officeDocument/2006/relationships/audio" Target="../media/loud_whinny.wav"/><Relationship Id="rId17" Type="http://schemas.openxmlformats.org/officeDocument/2006/relationships/audio" Target="../media/applause.wav"/><Relationship Id="rId18" Type="http://schemas.openxmlformats.org/officeDocument/2006/relationships/audio" Target="../media/horse_pass2.wav"/><Relationship Id="rId19" Type="http://schemas.openxmlformats.org/officeDocument/2006/relationships/audio" Target="../media/horse_snort1.wav"/><Relationship Id="rId20" Type="http://schemas.openxmlformats.org/officeDocument/2006/relationships/audio" Target="../media/horse_snort1.wav"/><Relationship Id="rId21" Type="http://schemas.openxmlformats.org/officeDocument/2006/relationships/audio" Target="../media/loud_whinny.wav"/><Relationship Id="rId22" Type="http://schemas.openxmlformats.org/officeDocument/2006/relationships/audio" Target="../media/horse_scream1.wav"/><Relationship Id="rId23" Type="http://schemas.openxmlformats.org/officeDocument/2006/relationships/audio" Target="../media/horse_whine1.WAV"/><Relationship Id="rId24" Type="http://schemas.openxmlformats.org/officeDocument/2006/relationships/audio" Target="../media/horse_snort1.wav"/><Relationship Id="rId25" Type="http://schemas.openxmlformats.org/officeDocument/2006/relationships/audio" Target="../media/loud_whinny.wav"/><Relationship Id="rId26" Type="http://schemas.openxmlformats.org/officeDocument/2006/relationships/audio" Target="../media/horse_scream1.wav"/><Relationship Id="rId27" Type="http://schemas.openxmlformats.org/officeDocument/2006/relationships/audio" Target="../media/applause.wav"/><Relationship Id="rId28" Type="http://schemas.openxmlformats.org/officeDocument/2006/relationships/audio" Target="../media/horse_pass2.wav"/><Relationship Id="rId29" Type="http://schemas.openxmlformats.org/officeDocument/2006/relationships/audio" Target="../media/loud_whinny.wav"/><Relationship Id="rId30" Type="http://schemas.openxmlformats.org/officeDocument/2006/relationships/audio" Target="../media/horse_whine1.WAV"/><Relationship Id="rId31" Type="http://schemas.openxmlformats.org/officeDocument/2006/relationships/audio" Target="../media/horse_snort1.wav"/><Relationship Id="rId32" Type="http://schemas.openxmlformats.org/officeDocument/2006/relationships/audio" Target="../media/horse_scream1.wav"/><Relationship Id="rId33" Type="http://schemas.openxmlformats.org/officeDocument/2006/relationships/audio" Target="../media/horse_whine1.WAV"/><Relationship Id="rId34" Type="http://schemas.openxmlformats.org/officeDocument/2006/relationships/audio" Target="../media/loud_whinny.wav"/><Relationship Id="rId35" Type="http://schemas.openxmlformats.org/officeDocument/2006/relationships/audio" Target="../media/horse_whine1.WAV"/><Relationship Id="rId36" Type="http://schemas.openxmlformats.org/officeDocument/2006/relationships/audio" Target="../media/horse_scream1.wav"/><Relationship Id="rId37" Type="http://schemas.openxmlformats.org/officeDocument/2006/relationships/audio" Target="../media/applause.wav"/><Relationship Id="rId38" Type="http://schemas.openxmlformats.org/officeDocument/2006/relationships/audio" Target="../media/horse_pass2.wav"/><Relationship Id="rId39" Type="http://schemas.openxmlformats.org/officeDocument/2006/relationships/audio" Target="../media/loud_whinny.wav"/><Relationship Id="rId40" Type="http://schemas.openxmlformats.org/officeDocument/2006/relationships/audio" Target="../media/horse_snort1.wav"/><Relationship Id="rId41" Type="http://schemas.openxmlformats.org/officeDocument/2006/relationships/audio" Target="../media/horse_whine1.WAV"/><Relationship Id="rId42" Type="http://schemas.openxmlformats.org/officeDocument/2006/relationships/audio" Target="../media/horse_scream1.wav"/><Relationship Id="rId43" Type="http://schemas.openxmlformats.org/officeDocument/2006/relationships/audio" Target="../media/loud_whinny.wav"/><Relationship Id="rId44" Type="http://schemas.openxmlformats.org/officeDocument/2006/relationships/audio" Target="../media/horse_whine1.WAV"/><Relationship Id="rId45" Type="http://schemas.openxmlformats.org/officeDocument/2006/relationships/audio" Target="../media/horse_snort1.wav"/><Relationship Id="rId46" Type="http://schemas.openxmlformats.org/officeDocument/2006/relationships/audio" Target="../media/horse_scream1.wav"/><Relationship Id="rId47" Type="http://schemas.openxmlformats.org/officeDocument/2006/relationships/audio" Target="../media/applause.wav"/><Relationship Id="rId48" Type="http://schemas.openxmlformats.org/officeDocument/2006/relationships/audio" Target="../media/horse_pass2.wav"/><Relationship Id="rId49" Type="http://schemas.openxmlformats.org/officeDocument/2006/relationships/audio" Target="../media/loud_whinny.wav"/><Relationship Id="rId50" Type="http://schemas.openxmlformats.org/officeDocument/2006/relationships/audio" Target="../media/horse_snort1.wav"/><Relationship Id="rId51" Type="http://schemas.openxmlformats.org/officeDocument/2006/relationships/audio" Target="../media/horse_whine1.WAV"/><Relationship Id="rId52" Type="http://schemas.openxmlformats.org/officeDocument/2006/relationships/audio" Target="../media/horse_scream1.wav"/><Relationship Id="rId53" Type="http://schemas.openxmlformats.org/officeDocument/2006/relationships/audio" Target="../media/loud_whinny.wav"/><Relationship Id="rId54" Type="http://schemas.openxmlformats.org/officeDocument/2006/relationships/audio" Target="../media/horse_whine1.WAV"/><Relationship Id="rId55" Type="http://schemas.openxmlformats.org/officeDocument/2006/relationships/audio" Target="../media/horse_snort1.wav"/><Relationship Id="rId56" Type="http://schemas.openxmlformats.org/officeDocument/2006/relationships/audio" Target="../media/horse_scream1.wav"/><Relationship Id="rId57" Type="http://schemas.openxmlformats.org/officeDocument/2006/relationships/audio" Target="../media/applause.wav"/><Relationship Id="rId58" Type="http://schemas.openxmlformats.org/officeDocument/2006/relationships/audio" Target="../media/horse_pass2.wav"/><Relationship Id="rId59" Type="http://schemas.openxmlformats.org/officeDocument/2006/relationships/audio" Target="../media/loud_whinny.wav"/><Relationship Id="rId60" Type="http://schemas.openxmlformats.org/officeDocument/2006/relationships/audio" Target="../media/horse_snort1.wav"/><Relationship Id="rId61" Type="http://schemas.openxmlformats.org/officeDocument/2006/relationships/audio" Target="../media/horse_whine1.WAV"/><Relationship Id="rId62" Type="http://schemas.openxmlformats.org/officeDocument/2006/relationships/audio" Target="../media/horse_scream1.wav"/><Relationship Id="rId63" Type="http://schemas.openxmlformats.org/officeDocument/2006/relationships/audio" Target="../media/loud_whinny.wav"/><Relationship Id="rId64" Type="http://schemas.openxmlformats.org/officeDocument/2006/relationships/audio" Target="../media/horse_whine1.WAV"/><Relationship Id="rId65" Type="http://schemas.openxmlformats.org/officeDocument/2006/relationships/audio" Target="../media/horse_snort1.wav"/><Relationship Id="rId66" Type="http://schemas.openxmlformats.org/officeDocument/2006/relationships/audio" Target="../media/horse_scream1.wav"/><Relationship Id="rId67" Type="http://schemas.openxmlformats.org/officeDocument/2006/relationships/audio" Target="../media/applause.wav"/><Relationship Id="rId6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eople.uncw.edu/ertzbergerj/msgames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3000" y="685800"/>
            <a:ext cx="672480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Wilmington Stakes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Picture 5" descr="PE03732_"/>
          <p:cNvPicPr/>
          <p:nvPr/>
        </p:nvPicPr>
        <p:blipFill>
          <a:blip r:embed="rId1"/>
          <a:stretch/>
        </p:blipFill>
        <p:spPr>
          <a:xfrm>
            <a:off x="-2590920" y="3886200"/>
            <a:ext cx="4583160" cy="27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85 -0.00023 L 0.50764 -0.00023 E">
                                      <p:cBhvr>
                                        <p:cTn id="6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3"/>
          <p:cNvSpPr/>
          <p:nvPr/>
        </p:nvSpPr>
        <p:spPr>
          <a:xfrm>
            <a:off x="8839080" y="263520"/>
            <a:ext cx="228600" cy="5257800"/>
          </a:xfrm>
          <a:prstGeom prst="flowChartPredefined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6"/>
          <p:cNvSpPr/>
          <p:nvPr/>
        </p:nvSpPr>
        <p:spPr>
          <a:xfrm>
            <a:off x="312408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rk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22"/>
          <p:cNvSpPr txBox="1"/>
          <p:nvPr/>
        </p:nvSpPr>
        <p:spPr>
          <a:xfrm>
            <a:off x="55440" y="25560"/>
            <a:ext cx="3221280" cy="2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Wilmington Stakes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Picture 23" descr="PE03732_"/>
          <p:cNvPicPr/>
          <p:nvPr/>
        </p:nvPicPr>
        <p:blipFill>
          <a:blip r:embed="rId2"/>
          <a:stretch/>
        </p:blipFill>
        <p:spPr>
          <a:xfrm>
            <a:off x="0" y="295200"/>
            <a:ext cx="1459080" cy="874800"/>
          </a:xfrm>
          <a:prstGeom prst="rect">
            <a:avLst/>
          </a:prstGeom>
          <a:ln w="0">
            <a:noFill/>
          </a:ln>
        </p:spPr>
      </p:pic>
      <p:sp>
        <p:nvSpPr>
          <p:cNvPr id="48" name="Line 26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4" descr="blue_horse"/>
          <p:cNvPicPr/>
          <p:nvPr/>
        </p:nvPicPr>
        <p:blipFill>
          <a:blip r:embed="rId3"/>
          <a:stretch/>
        </p:blipFill>
        <p:spPr>
          <a:xfrm>
            <a:off x="0" y="2048040"/>
            <a:ext cx="1419120" cy="847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9" descr="light_green_horse"/>
          <p:cNvPicPr/>
          <p:nvPr/>
        </p:nvPicPr>
        <p:blipFill>
          <a:blip r:embed="rId4"/>
          <a:stretch/>
        </p:blipFill>
        <p:spPr>
          <a:xfrm>
            <a:off x="0" y="120960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6" descr="orange_horse1"/>
          <p:cNvPicPr/>
          <p:nvPr/>
        </p:nvPicPr>
        <p:blipFill>
          <a:blip r:embed="rId5"/>
          <a:stretch/>
        </p:blipFill>
        <p:spPr>
          <a:xfrm>
            <a:off x="-47520" y="463860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8" descr="purple_horse"/>
          <p:cNvPicPr/>
          <p:nvPr/>
        </p:nvPicPr>
        <p:blipFill>
          <a:blip r:embed="rId6"/>
          <a:stretch/>
        </p:blipFill>
        <p:spPr>
          <a:xfrm>
            <a:off x="0" y="2886120"/>
            <a:ext cx="141912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1" descr="light_blue"/>
          <p:cNvPicPr/>
          <p:nvPr/>
        </p:nvPicPr>
        <p:blipFill>
          <a:blip r:embed="rId7"/>
          <a:stretch/>
        </p:blipFill>
        <p:spPr>
          <a:xfrm>
            <a:off x="0" y="3800520"/>
            <a:ext cx="141912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Line 72"/>
          <p:cNvSpPr/>
          <p:nvPr/>
        </p:nvSpPr>
        <p:spPr>
          <a:xfrm>
            <a:off x="76320" y="26352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7"/>
          <p:cNvSpPr/>
          <p:nvPr/>
        </p:nvSpPr>
        <p:spPr>
          <a:xfrm>
            <a:off x="167652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8"/>
          <p:cNvSpPr/>
          <p:nvPr/>
        </p:nvSpPr>
        <p:spPr>
          <a:xfrm>
            <a:off x="22860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0"/>
          <p:cNvSpPr/>
          <p:nvPr/>
        </p:nvSpPr>
        <p:spPr>
          <a:xfrm>
            <a:off x="457200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r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F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1"/>
          <p:cNvSpPr/>
          <p:nvPr/>
        </p:nvSpPr>
        <p:spPr>
          <a:xfrm>
            <a:off x="601992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ght 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F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2"/>
          <p:cNvSpPr/>
          <p:nvPr/>
        </p:nvSpPr>
        <p:spPr>
          <a:xfrm>
            <a:off x="7467480" y="58672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rse S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orse_pass2.wav"/>
                                        </p:tgtEl>
                                      </p:cMediaNode>
                                    </p:audio>
                                    <p:animMotion origin="layout" path="M 2.5E-006 -2.96296E-006 L 0.10364 -2.96296E-006 E"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orse_snort1.wav"/>
                                        </p:tgtEl>
                                      </p:cMediaNode>
                                    </p:audio>
                                    <p:animMotion origin="layout" path="M 0.10364 -2.96296E-006 L 0.17864 -2.96296E-006 E">
                                      <p:cBhvr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orse_whine1.WAV"/>
                                        </p:tgtEl>
                                      </p:cMediaNode>
                                    </p:audio>
                                    <p:animMotion origin="layout" path="M 0.17865 -2.96296E-006 L 0.25834 -2.96296E-006 E"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oud_whinny.wav"/>
                                        </p:tgtEl>
                                      </p:cMediaNode>
                                    </p:audio>
                                    <p:animMotion origin="layout" path="M 0.25833 -2.96296E-006 L 0.32864 -2.96296E-006 E">
                                      <p:cBhvr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orse_snort1.wav"/>
                                        </p:tgtEl>
                                      </p:cMediaNode>
                                    </p:audio>
                                    <p:animMotion origin="layout" path="M 0.32864 -2.96296E-006 L 0.39531 -2.96296E-006 E">
                                      <p:cBhvr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orse_whine1.WAV"/>
                                        </p:tgtEl>
                                      </p:cMediaNode>
                                    </p:audio>
                                    <p:animMotion origin="layout" path="M 0.39531 -2.96296E-006 L 0.46198 -2.96296E-006 E">
                                      <p:cBhvr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orse_scream1.wav"/>
                                        </p:tgtEl>
                                      </p:cMediaNode>
                                    </p:audio>
                                    <p:animMotion origin="layout" path="M 0.46198 -2.96296E-006 L 0.55364 -2.96296E-006 E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orse_snort1.wav"/>
                                        </p:tgtEl>
                                      </p:cMediaNode>
                                    </p:audio>
                                    <p:animMotion origin="layout" path="M 0.55364 -2.96296E-006 L 0.65364 -2.96296E-006 E">
                                      <p:cBhvr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oud_whinny.wav"/>
                                        </p:tgtEl>
                                      </p:cMediaNode>
                                    </p:audio>
                                    <p:animMotion origin="layout" path="M 0.65364 -2.96296E-006 L 0.77864 -2.96296E-006 E">
                                      <p:cBhvr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animMotion origin="layout" path="M 0.77864 -4.95608E-006 L 0.83698 -4.95608E-006 E">
                                      <p:cBhvr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orse_pass2.wav"/>
                                        </p:tgtEl>
                                      </p:cMediaNode>
                                    </p:audio>
                                    <p:animMotion origin="layout" path="M 0.00573 -4.09806E-006 L 0.11146 -4.09806E-006 E">
                                      <p:cBhvr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orse_snort1.wav"/>
                                        </p:tgtEl>
                                      </p:cMediaNode>
                                    </p:audio>
                                    <p:animMotion origin="layout" path="M 0.11146 -4.09806E-006 L 0.18073 -4.09806E-006 E"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orse_snort1.wav"/>
                                        </p:tgtEl>
                                      </p:cMediaNode>
                                    </p:audio>
                                    <p:animMotion origin="layout" path="M 0.18073 -4.09806E-006 L 0.25573 -4.09806E-006 E">
                                      <p:cBhvr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oud_whinny.wav"/>
                                        </p:tgtEl>
                                      </p:cMediaNode>
                                    </p:audio>
                                    <p:animMotion origin="layout" path="M 0.25573 -4.09806E-006 L 0.3224 -4.09806E-006 E">
                                      <p:cBhvr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orse_scream1.wav"/>
                                        </p:tgtEl>
                                      </p:cMediaNode>
                                    </p:audio>
                                    <p:animMotion origin="layout" path="M 0.3224 -4.09806E-006 L 0.3974 -4.09806E-006 E">
                                      <p:cBhvr>
                                        <p:cTn id="6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orse_whine1.WAV"/>
                                        </p:tgtEl>
                                      </p:cMediaNode>
                                    </p:audio>
                                    <p:animMotion origin="layout" path="M 0.3974 -4.09806E-006 L 0.45573 -4.09806E-006 E">
                                      <p:cBhvr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orse_snort1.wav"/>
                                        </p:tgtEl>
                                      </p:cMediaNode>
                                    </p:audio>
                                    <p:animMotion origin="layout" path="M 0.45573 -4.09806E-006 L 0.5474 -4.09806E-006 E">
                                      <p:cBhvr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oud_whinny.wav"/>
                                        </p:tgtEl>
                                      </p:cMediaNode>
                                    </p:audio>
                                    <p:animMotion origin="layout" path="M 0.5474 -4.09806E-006 L 0.65573 -4.09806E-006 E">
                                      <p:cBhvr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horse_scream1.wav"/>
                                        </p:tgtEl>
                                      </p:cMediaNode>
                                    </p:audio>
                                    <p:animMotion origin="layout" path="M 0.65573 -4.09806E-006 L 0.78073 -4.09806E-006 E">
                                      <p:cBhvr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Motion origin="layout" path="M 0.78073 -4.09806E-006 L 0.8474 -4.09806E-006 E">
                                      <p:cBhvr>
                                        <p:cTn id="8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horse_pass2.wav"/>
                                        </p:tgtEl>
                                      </p:cMediaNode>
                                    </p:audio>
                                    <p:animMotion origin="layout" path="M 0.00573 3.33333E-006 L 0.11146 3.33333E-006 E">
                                      <p:cBhvr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oud_whinny.wav"/>
                                        </p:tgtEl>
                                      </p:cMediaNode>
                                    </p:audio>
                                    <p:animMotion origin="layout" path="M 0.11146 3.33333E-006 L 0.18073 3.33333E-006 E">
                                      <p:cBhvr>
                                        <p:cTn id="9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horse_whine1.WAV"/>
                                        </p:tgtEl>
                                      </p:cMediaNode>
                                    </p:audio>
                                    <p:animMotion origin="layout" path="M 0.18073 3.33333E-006 L 0.25573 3.33333E-006 E">
                                      <p:cBhvr>
                                        <p:cTn id="10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orse_snort1.wav"/>
                                        </p:tgtEl>
                                      </p:cMediaNode>
                                    </p:audio>
                                    <p:animMotion origin="layout" path="M 0.25573 3.33333E-006 L 0.33073 3.33333E-006 E">
                                      <p:cBhvr>
                                        <p:cTn id="10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orse_scream1.wav"/>
                                        </p:tgtEl>
                                      </p:cMediaNode>
                                    </p:audio>
                                    <p:animMotion origin="layout" path="M 0.33073 3.33333E-006 L 0.3974 3.33333E-006 E">
                                      <p:cBhvr>
                                        <p:cTn id="11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horse_whine1.WAV"/>
                                        </p:tgtEl>
                                      </p:cMediaNode>
                                    </p:audio>
                                    <p:animMotion origin="layout" path="M 0.3974 3.33333E-006 L 0.45573 3.33333E-006 E">
                                      <p:cBhvr>
                                        <p:cTn id="11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oud_whinny.wav"/>
                                        </p:tgtEl>
                                      </p:cMediaNode>
                                    </p:audio>
                                    <p:animMotion origin="layout" path="M 0.45573 3.33333E-006 L 0.5474 3.33333E-006 E">
                                      <p:cBhvr>
                                        <p:cTn id="1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horse_whine1.WAV"/>
                                        </p:tgtEl>
                                      </p:cMediaNode>
                                    </p:audio>
                                    <p:animMotion origin="layout" path="M 0.5474 3.33333E-006 L 0.65573 3.33333E-006 E">
                                      <p:cBhvr>
                                        <p:cTn id="12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orse_scream1.wav"/>
                                        </p:tgtEl>
                                      </p:cMediaNode>
                                    </p:audio>
                                    <p:animMotion origin="layout" path="M 0.65573 3.33333E-006 L 0.7724 3.33333E-006 E">
                                      <p:cBhvr>
                                        <p:cTn id="12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applause.wav"/>
                                        </p:tgtEl>
                                      </p:cMediaNode>
                                    </p:audio>
                                    <p:animMotion origin="layout" path="M 0.7724 3.33333E-006 L 0.8474 3.33333E-006 E">
                                      <p:cBhvr>
                                        <p:cTn id="13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orse_pass2.wav"/>
                                        </p:tgtEl>
                                      </p:cMediaNode>
                                    </p:audio>
                                    <p:animMotion origin="layout" path="M -4.16667E-006 1.11111E-006 L 0.11407 1.11111E-006 E">
                                      <p:cBhvr>
                                        <p:cTn id="13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oud_whinny.wav"/>
                                        </p:tgtEl>
                                      </p:cMediaNode>
                                    </p:audio>
                                    <p:animMotion origin="layout" path="M 0.11407 1.11111E-006 L 0.18073 1.11111E-006 E">
                                      <p:cBhvr>
                                        <p:cTn id="13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orse_snort1.wav"/>
                                        </p:tgtEl>
                                      </p:cMediaNode>
                                    </p:audio>
                                    <p:animMotion origin="layout" path="M 0.18073 1.11111E-006 L 0.26407 1.11111E-006 E">
                                      <p:cBhvr>
                                        <p:cTn id="14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horse_whine1.WAV"/>
                                        </p:tgtEl>
                                      </p:cMediaNode>
                                    </p:audio>
                                    <p:animMotion origin="layout" path="M 0.26407 1.11111E-006 L 0.33073 1.11111E-006 E">
                                      <p:cBhvr>
                                        <p:cTn id="14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orse_scream1.wav"/>
                                        </p:tgtEl>
                                      </p:cMediaNode>
                                    </p:audio>
                                    <p:animMotion origin="layout" path="M 0.33073 1.11111E-006 L 0.3974 1.11111E-006 E">
                                      <p:cBhvr>
                                        <p:cTn id="15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oud_whinny.wav"/>
                                        </p:tgtEl>
                                      </p:cMediaNode>
                                    </p:audio>
                                    <p:animMotion origin="layout" path="M 0.3974 1.11111E-006 L 0.46407 1.11111E-006 E">
                                      <p:cBhvr>
                                        <p:cTn id="15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horse_whine1.WAV"/>
                                        </p:tgtEl>
                                      </p:cMediaNode>
                                    </p:audio>
                                    <p:animMotion origin="layout" path="M 0.46407 1.11111E-006 L 0.5474 1.11111E-006 E">
                                      <p:cBhvr>
                                        <p:cTn id="159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horse_snort1.wav"/>
                                        </p:tgtEl>
                                      </p:cMediaNode>
                                    </p:audio>
                                    <p:animMotion origin="layout" path="M 0.5474 1.11111E-006 L 0.65573 1.11111E-006 E">
                                      <p:cBhvr>
                                        <p:cTn id="163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orse_scream1.wav"/>
                                        </p:tgtEl>
                                      </p:cMediaNode>
                                    </p:audio>
                                    <p:animMotion origin="layout" path="M 0.65573 1.11111E-006 L 0.76407 1.11111E-006 E">
                                      <p:cBhvr>
                                        <p:cTn id="16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applause.wav"/>
                                        </p:tgtEl>
                                      </p:cMediaNode>
                                    </p:audio>
                                    <p:animMotion origin="layout" path="M 0.76407 1.11111E-006 L 0.8474 1.11111E-006 E">
                                      <p:cBhvr>
                                        <p:cTn id="17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horse_pass2.wav"/>
                                        </p:tgtEl>
                                      </p:cMediaNode>
                                    </p:audio>
                                    <p:animMotion origin="layout" path="M -4.16667E-006 -2.22222E-006 L 0.11407 -2.22222E-006 E">
                                      <p:cBhvr>
                                        <p:cTn id="17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loud_whinny.wav"/>
                                        </p:tgtEl>
                                      </p:cMediaNode>
                                    </p:audio>
                                    <p:animMotion origin="layout" path="M 0.11406 -2.22222E-006 L 0.18038 -2.22222E-006 E">
                                      <p:cBhvr>
                                        <p:cTn id="18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horse_snort1.wav"/>
                                        </p:tgtEl>
                                      </p:cMediaNode>
                                    </p:audio>
                                    <p:animMotion origin="layout" path="M 0.18038 -2.22222E-006 L 0.26372 -2.22222E-006 E">
                                      <p:cBhvr>
                                        <p:cTn id="18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horse_whine1.WAV"/>
                                        </p:tgtEl>
                                      </p:cMediaNode>
                                    </p:audio>
                                    <p:animMotion origin="layout" path="M 0.26372 -2.22222E-006 L 0.33907 -2.22222E-006 E">
                                      <p:cBhvr>
                                        <p:cTn id="18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horse_scream1.wav"/>
                                        </p:tgtEl>
                                      </p:cMediaNode>
                                    </p:audio>
                                    <p:animMotion origin="layout" path="M 0.33907 -2.22222E-006 L 0.3974 -2.22222E-006 E">
                                      <p:cBhvr>
                                        <p:cTn id="19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loud_whinny.wav"/>
                                        </p:tgtEl>
                                      </p:cMediaNode>
                                    </p:audio>
                                    <p:animMotion origin="layout" path="M 0.3974 -2.22222E-006 L 0.46407 -2.22222E-006 E">
                                      <p:cBhvr>
                                        <p:cTn id="19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horse_whine1.WAV"/>
                                        </p:tgtEl>
                                      </p:cMediaNode>
                                    </p:audio>
                                    <p:animMotion origin="layout" path="M 0.46407 -2.22222E-006 L 0.5474 -2.22222E-006 E">
                                      <p:cBhvr>
                                        <p:cTn id="20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horse_snort1.wav"/>
                                        </p:tgtEl>
                                      </p:cMediaNode>
                                    </p:audio>
                                    <p:animMotion origin="layout" path="M 0.5474 -2.22222E-006 L 0.65573 -2.22222E-006 E">
                                      <p:cBhvr>
                                        <p:cTn id="20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horse_scream1.wav"/>
                                        </p:tgtEl>
                                      </p:cMediaNode>
                                    </p:audio>
                                    <p:animMotion origin="layout" path="M 0.65573 -2.22222E-006 L 0.76407 -2.22222E-006 E">
                                      <p:cBhvr>
                                        <p:cTn id="208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applause.wav"/>
                                        </p:tgtEl>
                                      </p:cMediaNode>
                                    </p:audio>
                                    <p:animMotion origin="layout" path="M 0.76407 -2.22222E-006 L 0.8474 -2.22222E-006 E">
                                      <p:cBhvr>
                                        <p:cTn id="21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horse_pass2.wav"/>
                                        </p:tgtEl>
                                      </p:cMediaNode>
                                    </p:audio>
                                    <p:animMotion origin="layout" path="M 4.16667E-006 -4.44444E-006 L 0.11927 -4.44444E-006 E">
                                      <p:cBhvr>
                                        <p:cTn id="21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oud_whinny.wav"/>
                                        </p:tgtEl>
                                      </p:cMediaNode>
                                    </p:audio>
                                    <p:animMotion origin="layout" path="M 0.11927 -4.44444E-006 L 0.18593 -4.44444E-006 E">
                                      <p:cBhvr>
                                        <p:cTn id="22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horse_snort1.wav"/>
                                        </p:tgtEl>
                                      </p:cMediaNode>
                                    </p:audio>
                                    <p:animMotion origin="layout" path="M 0.18593 -4.44444E-006 L 0.26927 -4.44444E-006 E">
                                      <p:cBhvr>
                                        <p:cTn id="22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horse_whine1.WAV"/>
                                        </p:tgtEl>
                                      </p:cMediaNode>
                                    </p:audio>
                                    <p:animMotion origin="layout" path="M 0.26927 -4.44444E-006 L 0.34427 -4.44444E-006 E">
                                      <p:cBhvr>
                                        <p:cTn id="22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horse_scream1.wav"/>
                                        </p:tgtEl>
                                      </p:cMediaNode>
                                    </p:audio>
                                    <p:animMotion origin="layout" path="M 0.34427 -4.44444E-006 L 0.41093 -4.44444E-006 E">
                                      <p:cBhvr>
                                        <p:cTn id="23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loud_whinny.wav"/>
                                        </p:tgtEl>
                                      </p:cMediaNode>
                                    </p:audio>
                                    <p:animMotion origin="layout" path="M 0.41093 -4.44444E-006 L 0.46927 -4.44444E-006 E">
                                      <p:cBhvr>
                                        <p:cTn id="237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horse_whine1.WAV"/>
                                        </p:tgtEl>
                                      </p:cMediaNode>
                                    </p:audio>
                                    <p:animMotion origin="layout" path="M 0.46927 -4.44444E-006 L 0.56093 -4.44444E-006 E">
                                      <p:cBhvr>
                                        <p:cTn id="24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horse_snort1.wav"/>
                                        </p:tgtEl>
                                      </p:cMediaNode>
                                    </p:audio>
                                    <p:animMotion origin="layout" path="M 0.56093 -4.44444E-006 L 0.66093 -4.44444E-006 E">
                                      <p:cBhvr>
                                        <p:cTn id="24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horse_scream1.wav"/>
                                        </p:tgtEl>
                                      </p:cMediaNode>
                                    </p:audio>
                                    <p:animMotion origin="layout" path="M 0.66093 -4.44444E-006 L 0.76927 -4.44444E-006 E">
                                      <p:cBhvr>
                                        <p:cTn id="24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applause.wav"/>
                                        </p:tgtEl>
                                      </p:cMediaNode>
                                    </p:audio>
                                    <p:animMotion origin="layout" path="M 0.76927 -4.44444E-006 L 0.8526 -4.44444E-006 E">
                                      <p:cBhvr>
                                        <p:cTn id="25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33520" y="457200"/>
            <a:ext cx="8381880" cy="605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ff Ertzberger -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North Carolina at Wilmingt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are free to use this template in non-profit educational setting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sure to check Jeff Ertzberger’s  digital templates web site for even more template games and great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people.uncw.edu/ertzbergerj/msga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01:36:35Z</dcterms:created>
  <dc:creator>Jeff Ertzberger</dc:creator>
  <dc:description/>
  <dc:language>en-US</dc:language>
  <cp:lastModifiedBy>vermiglio</cp:lastModifiedBy>
  <dcterms:modified xsi:type="dcterms:W3CDTF">2008-12-06T15:20:54Z</dcterms:modified>
  <cp:revision>51</cp:revision>
  <dc:subject/>
  <dc:title>Horse or Car Race Idea</dc:title>
</cp:coreProperties>
</file>